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95A7-34D4-4D55-B03B-57A75FEDF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8DFA-5398-464E-97BD-FABEB6EE6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2DFC-A8FC-457C-B970-93E3CA3B3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5E8E-B702-49C7-B342-8C73AD7E1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4A3D4-D45C-42BF-A071-99EA7680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41DA9-0561-4C25-8EB8-625A61D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CF573-F621-4578-82E5-694CBCF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57D72-09AB-4FB2-BA28-41AAC95D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02DBD-3092-4286-846D-0E479CEC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350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57555-9350-48D8-BE57-FA188B51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C33FD-96DA-4019-B880-E1C4965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2CEA-2D48-4A51-B62C-F0DB3D591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A7762-4955-4C79-BEB9-EBD4A835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8D28C-826F-4825-9360-47B12525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EAC0F-03E9-4D97-B4AD-D47DE04C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FEED8-D476-4AA9-985B-4A7BE9B7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A3DEB-9B1E-4970-B674-F8523BC1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8725-32BD-4B6F-A0F3-1BCB6279E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8EC2-8E00-4927-8A6A-4CA1DE8DA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4B68-2126-4B6E-AB36-30DBA42CA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0350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9DDF-956E-404F-A8E9-B30228BDF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D16F-6CE4-44D3-9098-60ECCF3BD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928D-0D2C-4AE7-BDB1-0B701D15D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B31E-2068-4AFB-B550-A4F82795A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hi.baidu.com/&#38420;&#23569;_lk/album/item/014fde47805f302f6b63e589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788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315200" y="6400440"/>
            <a:ext cx="1371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4EAC-4515-48B5-8085-2F6141B6FF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19A5-314E-4FEE-AEE4-71103463D6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4343400"/>
            <a:ext cx="533412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788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788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38080" y="403848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63504" dir="221609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63504" dir="221609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3:46:56Z</dcterms:created>
  <dc:creator>Chinese User</dc:creator>
  <dc:description/>
  <dc:language>en-US</dc:language>
  <cp:lastModifiedBy>Chinese User</cp:lastModifiedBy>
  <dcterms:modified xsi:type="dcterms:W3CDTF">2009-07-22T03:53:5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