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1270-5D9F-4B46-BE0F-AC964EC4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26AD-F1BF-45CE-A253-87A01C6E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848A-BA39-434A-8248-17194F23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ABE3-1625-4734-99A1-CBB52647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4150-65F2-4446-A23E-223F3CA3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4612-103C-4D24-8AE5-B063A59A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7B94-1B41-4141-8C77-29C4A9A2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BF05-2490-490D-9DEA-7131A326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3C5E-3F73-4D93-BF12-38F13638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8942-C903-454D-8872-B7A5A799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F631-AE6E-447F-BA10-F33CF89F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585C-6FF0-4998-9C6E-3ABF3008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72A6-7154-4B23-9B66-4CDB38A9A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dvd-ppt-slideshow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3581280" y="64882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Moyea PowerPoint Co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ike</cp:lastModifiedBy>
  <dcterms:modified xsi:type="dcterms:W3CDTF">2009-07-21T07:36:22Z</dcterms:modified>
  <cp:revision>5</cp:revision>
  <dc:subject/>
  <dc:title>Slide 1</dc:title>
</cp:coreProperties>
</file>