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7CB-9D63-45F9-A90C-FC59AD51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880-DBDD-4496-A143-7FABFFE6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F61-91FE-49D3-810C-F392CF97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F4A-EC8F-47C4-9107-9A1D11B1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8C3-468B-42B7-8F38-7A70C08B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BEE-02D2-4B29-9DC1-9A35EDE8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736-9761-42A2-96DE-16A2E923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07B-A574-4436-9E91-20861EFD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DCB-0874-4A9F-AC88-35341C29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A76-FE1E-4D42-B735-36D7AE63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6D7-0CD0-4273-A0E0-A61E82F1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1ED-82C3-4F0C-A101-AC6BFD0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A2A1-F263-4C76-9564-4FDD01E39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581280" y="6324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yea PowerPoint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7-21T07:35:59Z</dcterms:modified>
  <cp:revision>3</cp:revision>
  <dc:subject/>
  <dc:title>Slide 1</dc:title>
</cp:coreProperties>
</file>