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A6D-761D-42EA-B553-149F48E6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2D3-81C4-4FAE-875F-F5A628D3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41C-952A-47BF-826D-2D2100FB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1CE-460C-4EE2-A0F2-C5E7797D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8954-1D63-4544-B98B-AF4ED5F1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B78A-A1C2-4556-B678-D8EA5FD9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080-2BA1-4F38-A998-16A8D6BB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5B8-A581-4426-9398-49426F33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56B-AA08-4AE0-8EC9-40EF28D6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1E0-9300-4E57-A9C1-F4EAE139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8436-8077-46AC-ADE6-832A4F8A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77D-AEB1-431C-9D94-22D3EE2D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E3E9-8B51-4FA4-B45C-0247D3E137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vd-ppt.slideshow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vd-ppt.slideshow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vd-ppt.slideshow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vd-ppt.slideshow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vd-ppt.slideshow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vd-ppt.slideshow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59400" y="6334200"/>
            <a:ext cx="4584600" cy="523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1600200" y="457200"/>
            <a:ext cx="5867280" cy="5910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781200" y="0"/>
            <a:ext cx="1123920" cy="2081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6"/>
          <a:stretch/>
        </p:blipFill>
        <p:spPr>
          <a:xfrm>
            <a:off x="7238880" y="152280"/>
            <a:ext cx="1143000" cy="20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1743120"/>
            <a:ext cx="548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I had a dream last n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                  </a:t>
            </a: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That I held you in my a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                    </a:t>
            </a: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Our heartbeats are in time,                  Joined as one with our palm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Peaceful only a heart beat and brea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I surrender my heart and soul to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You’re only person that made me belie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Because you made my dreams come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                                         </a:t>
            </a: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-By Nicola St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09680" y="762120"/>
            <a:ext cx="4724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cb2b2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On Valentine’s Day</a:t>
            </a:r>
            <a:endParaRPr b="0" lang="en-US" sz="3200" spc="1" strike="noStrike">
              <a:ln w="19080">
                <a:solidFill>
                  <a:srgbClr val="fcb2b2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59400" y="6334200"/>
            <a:ext cx="4584600" cy="523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219320" y="3505320"/>
            <a:ext cx="1441440" cy="141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 rot="1299600">
            <a:off x="7009920" y="2286000"/>
            <a:ext cx="762120" cy="74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14400" y="380880"/>
            <a:ext cx="5029200" cy="6172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219320" y="631800"/>
            <a:ext cx="52578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3366ff"/>
                </a:solidFill>
                <a:latin typeface="Comic Sans MS"/>
                <a:ea typeface="GungsuhChe"/>
              </a:rPr>
              <a:t>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I want you to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That I think of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   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wherever I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You are always on my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Oh baby! You’ve put 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      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in a bi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But what ever it is; I'm g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 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I feel this wa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Let me wish you a sup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  <a:ea typeface="GungsuhChe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  <a:ea typeface="GungsuhChe"/>
              </a:rPr>
              <a:t>              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GungsuhChe"/>
              </a:rPr>
              <a:t>Valentine's 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2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59400" y="6334200"/>
            <a:ext cx="4584600" cy="523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868560" y="0"/>
            <a:ext cx="4959360" cy="6781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053600" y="1914480"/>
            <a:ext cx="454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Sometime we meet some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who seems very speci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Who fills our very essen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to almost over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This special someone liv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within you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with whom we sent a journ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which lasts till eter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724280" y="1066680"/>
            <a:ext cx="3276720" cy="5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urier New"/>
              </a:rPr>
              <a:t>People Hit Heart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7150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 things, I think, make life worthwh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Love, to Hope, to Help, to Sm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Sir Walter Sc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59400" y="6334200"/>
            <a:ext cx="4584600" cy="523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 rot="19480200">
            <a:off x="6781680" y="3809520"/>
            <a:ext cx="914400" cy="895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71600" y="15238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You really are an Angel sent from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To take care of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To shower me with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You just don't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what you have done for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You touch have chased away all my f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You bring back my faith that almost f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Now I have realiz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I have found what I am looking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It's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and your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Love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and nothing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00320" y="647640"/>
            <a:ext cx="4352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appy Valentine's Day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0000">
    <p:wipe dir="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8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59400" y="6334200"/>
            <a:ext cx="4584600" cy="523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219320" y="3505320"/>
            <a:ext cx="1441440" cy="1411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 rot="1299600">
            <a:off x="7009920" y="2286000"/>
            <a:ext cx="762120" cy="746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914400" y="380880"/>
            <a:ext cx="5029200" cy="6172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19320" y="631800"/>
            <a:ext cx="52578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3366ff"/>
                </a:solidFill>
                <a:latin typeface="Comic Sans MS"/>
                <a:ea typeface="GungsuhChe"/>
              </a:rPr>
              <a:t>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I want you to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That I think of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   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wherever I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You are always on my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Oh baby! You’ve put 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      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in a bi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But what ever it is; I'm g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 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I feel this wa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Let me wish you a sup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  <a:ea typeface="GungsuhChe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  <a:ea typeface="GungsuhChe"/>
              </a:rPr>
              <a:t>              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GungsuhChe"/>
              </a:rPr>
              <a:t>Valentine's 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59400" y="6334200"/>
            <a:ext cx="458460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868560" y="0"/>
            <a:ext cx="4959360" cy="6781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053600" y="1914480"/>
            <a:ext cx="454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Sometime we meet some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who seems very speci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Who fills our very essen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to almost over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This special someone liv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within you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with whom we sent a journ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which lasts till eter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24280" y="1066680"/>
            <a:ext cx="3276720" cy="5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urier New"/>
              </a:rPr>
              <a:t>People Hit Heart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150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 things, I think, make life worthwh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Love, to Hope, to Help, to Sm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Sir Walter Sc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59400" y="6334200"/>
            <a:ext cx="4584600" cy="523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 rot="19480200">
            <a:off x="6781680" y="3809520"/>
            <a:ext cx="914400" cy="895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1600" y="15238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You really are an Angel sent from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To take care of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To shower me with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You just don't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what you have done for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You touch have chased away all my f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You bring back my faith that almost f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Now I have realiz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I have found what I am looking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It's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and your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Love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and nothing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00320" y="647640"/>
            <a:ext cx="4352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appy Valentine's Day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0000"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59400" y="6334200"/>
            <a:ext cx="4584600" cy="523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600200" y="457200"/>
            <a:ext cx="5867280" cy="591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781200" y="0"/>
            <a:ext cx="1123920" cy="2081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7238880" y="152280"/>
            <a:ext cx="1143000" cy="2081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52480" y="1743120"/>
            <a:ext cx="548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I had a dream last n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                  </a:t>
            </a: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That I held you in my a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                    </a:t>
            </a: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Our heartbeats are in time,                  Joined as one with our palm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Peaceful only a heart beat and brea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I surrender my heart and soul to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You’re only person that made me belie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Because you made my dreams come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                                         </a:t>
            </a: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-By Nicola St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09680" y="762120"/>
            <a:ext cx="4724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cb2b2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On Valentine’s Day</a:t>
            </a:r>
            <a:endParaRPr b="0" lang="en-US" sz="3200" spc="1" strike="noStrike">
              <a:ln w="19080">
                <a:solidFill>
                  <a:srgbClr val="fcb2b2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0000"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59400" y="6334200"/>
            <a:ext cx="4584600" cy="523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219320" y="3505320"/>
            <a:ext cx="1441440" cy="1411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 rot="1299600">
            <a:off x="7009920" y="2286000"/>
            <a:ext cx="762120" cy="746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914400" y="380880"/>
            <a:ext cx="5029200" cy="6172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19320" y="631800"/>
            <a:ext cx="52578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3366ff"/>
                </a:solidFill>
                <a:latin typeface="Comic Sans MS"/>
                <a:ea typeface="GungsuhChe"/>
              </a:rPr>
              <a:t>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I want you to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That I think of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   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wherever I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You are always on my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Oh baby! You’ve put 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      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in a bi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But what ever it is; I'm g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 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I feel this wa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GungsuhChe"/>
              </a:rPr>
              <a:t>Let me wish you a sup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  <a:ea typeface="GungsuhChe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  <a:ea typeface="GungsuhChe"/>
              </a:rPr>
              <a:t>              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GungsuhChe"/>
              </a:rPr>
              <a:t>Valentine's 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59400" y="6334200"/>
            <a:ext cx="4584600" cy="523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868560" y="0"/>
            <a:ext cx="4959360" cy="6781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053600" y="1914480"/>
            <a:ext cx="454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Sometime we meet some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who seems very speci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Who fills our very essen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to almost over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This special someone liv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within you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with whom we sent a journ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which lasts till eter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724280" y="1066680"/>
            <a:ext cx="3276720" cy="5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urier New"/>
              </a:rPr>
              <a:t>People Hit Heart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7150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 things, I think, make life worthwh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Love, to Hope, to Help, to Sm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Sir Walter Sc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59400" y="6334200"/>
            <a:ext cx="4584600" cy="523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 rot="19480200">
            <a:off x="6781680" y="3809520"/>
            <a:ext cx="914400" cy="895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71600" y="15238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You really are an Angel sent from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To take care of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To shower me with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You just don't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what you have done for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You touch have chased away all my f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You bring back my faith that almost f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Now I have realiz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I have found what I am looking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It's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and your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Love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and nothing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00320" y="647640"/>
            <a:ext cx="4352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appy Valentine's Day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0000">
    <p:wipe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59400" y="6334200"/>
            <a:ext cx="4584600" cy="523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600200" y="457200"/>
            <a:ext cx="5867280" cy="5910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81200" y="0"/>
            <a:ext cx="1123920" cy="2081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7238880" y="152280"/>
            <a:ext cx="1143000" cy="2081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52480" y="1743120"/>
            <a:ext cx="548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I had a dream last n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                  </a:t>
            </a: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That I held you in my a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                    </a:t>
            </a: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Our heartbeats are in time,                  Joined as one with our palm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Peaceful only a heart beat and brea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I surrender my heart and soul to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You’re only person that made me belie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Because you made my dreams come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                                         </a:t>
            </a:r>
            <a:r>
              <a:rPr b="1" lang="en-US" sz="2400" spc="-1" strike="noStrike">
                <a:solidFill>
                  <a:srgbClr val="990000"/>
                </a:solidFill>
                <a:latin typeface="Arial Narrow"/>
              </a:rPr>
              <a:t>-By Nicola St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09680" y="762120"/>
            <a:ext cx="4724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cb2b2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On Valentine’s Day</a:t>
            </a:r>
            <a:endParaRPr b="0" lang="en-US" sz="3200" spc="1" strike="noStrike">
              <a:ln w="19080">
                <a:solidFill>
                  <a:srgbClr val="fcb2b2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0000"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ngcj</cp:lastModifiedBy>
  <dcterms:modified xsi:type="dcterms:W3CDTF">2008-02-02T12:11:24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