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BA2-071E-403A-83BC-424FB176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D46-6EA7-4600-8CA4-C644849E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36C-513C-473A-95FE-79819E13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2C3-04FD-4122-9836-E5E2DA55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9B0-C65A-46AE-B7D4-08A015B6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579-1528-47B0-A698-92FCDDB1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DDB-ED48-43D8-ACCE-44710FB1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8E3-B212-4B13-95DF-02A9DA1E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5F5-B39D-4737-8864-6BC964BE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FC3-7CDB-47E2-9715-9D8B2FCD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6D4-3074-4929-B5E8-1A4D5AF6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A36-D033-4AEC-9085-29D76FD8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8A52-9E83-4B5E-8236-2010215EE3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22680" y="6321600"/>
            <a:ext cx="4621320" cy="536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609480" y="4114800"/>
            <a:ext cx="2419560" cy="2743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46200"/>
            <a:ext cx="853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Young love is a flame; very pretty, often very hot and fierce, but still only light and flickering. The love of the older and disciplined heart is as coals, deep-burning, unquench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Henry Ward Bee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My bounty is as boundless as the se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My love as deep; the more I give to th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The more I have, for both are infin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William Shakespeare, Romeo and Ju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19520" y="4981680"/>
            <a:ext cx="5991120" cy="657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9e87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Happy Valentine's Day</a:t>
            </a:r>
            <a:endParaRPr b="1" lang="en-US" sz="4400" spc="1" strike="noStrike">
              <a:ln w="19080">
                <a:solidFill>
                  <a:srgbClr val="ff9e87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22680" y="6321600"/>
            <a:ext cx="4621320" cy="536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41920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43000" y="3425760"/>
            <a:ext cx="1981080" cy="1832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52380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Love has no desire but to fulfill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But if you love and must needs have desires, let these be your desir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To melt and be like a running brook that sings its melody to the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To know the pain of too much tender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To be wounded by your own understanding of lov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And to bleed willingly and joy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Kahlil Gibran, The Prop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22680" y="6321600"/>
            <a:ext cx="4621320" cy="536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981080" y="380880"/>
            <a:ext cx="2855880" cy="2640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352680" y="1219320"/>
            <a:ext cx="1981440" cy="1831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3505320"/>
            <a:ext cx="786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Young love is a flame; very pretty, often very hot and fierce, but still only light and flickering. The love of the older and disciplined heart is as coals, deep-burning, unquench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-Henry Ward Bee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22680" y="6321600"/>
            <a:ext cx="4621320" cy="536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1905120"/>
            <a:ext cx="79246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I love you without knowing how, or when, or from 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I love you straightforwardly, without complexities or pri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so I love you because I know no other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than this: where I does not exist nor yo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so close that your hand on my chest is my ha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so close that your eyes close as I fall asleep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Arial"/>
              </a:rPr>
              <a:t>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Pablo Neruda, “Love Sonnet XVI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419120" y="685800"/>
            <a:ext cx="65055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Happy Valentine's Day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1000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22680" y="6321600"/>
            <a:ext cx="4621320" cy="53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286000" y="4191120"/>
            <a:ext cx="241920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143000" y="3425760"/>
            <a:ext cx="1981080" cy="1832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52380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Love has no desire but to fulfill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But if you love and must needs have desires, let these be your desir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To melt and be like a running brook that sings its melody to the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To know the pain of too much tender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To be wounded by your own understanding of lov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And to bleed willingly and joy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Kahlil Gibran, The Prop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22680" y="6321600"/>
            <a:ext cx="462132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981080" y="380880"/>
            <a:ext cx="2855880" cy="2640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352680" y="1219320"/>
            <a:ext cx="1981440" cy="183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3505320"/>
            <a:ext cx="786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Young love is a flame; very pretty, often very hot and fierce, but still only light and flickering. The love of the older and disciplined heart is as coals, deep-burning, unquench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-Henry Ward Bee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22680" y="6321600"/>
            <a:ext cx="4621320" cy="536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905120"/>
            <a:ext cx="79246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I love you without knowing how, or when, or from 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I love you straightforwardly, without complexities or pri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so I love you because I know no other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than this: where I does not exist nor yo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so close that your hand on my chest is my ha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so close that your eyes close as I fall asleep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Arial"/>
              </a:rPr>
              <a:t>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Pablo Neruda, “Love Sonnet XVI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19120" y="685800"/>
            <a:ext cx="65055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Happy Valentine's Day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10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22680" y="6321600"/>
            <a:ext cx="4621320" cy="53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9480" y="4114800"/>
            <a:ext cx="241956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646200"/>
            <a:ext cx="853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Young love is a flame; very pretty, often very hot and fierce, but still only light and flickering. The love of the older and disciplined heart is as coals, deep-burning, unquench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Henry Ward Bee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My bounty is as boundless as the se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My love as deep; the more I give to th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The more I have, for both are infin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William Shakespeare, Romeo and Ju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19520" y="4981680"/>
            <a:ext cx="5991120" cy="657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9e87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Happy Valentine's Day</a:t>
            </a:r>
            <a:endParaRPr b="1" lang="en-US" sz="4400" spc="1" strike="noStrike">
              <a:ln w="19080">
                <a:solidFill>
                  <a:srgbClr val="ff9e87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 advTm="10000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22680" y="6321600"/>
            <a:ext cx="4621320" cy="536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286000" y="4191120"/>
            <a:ext cx="24192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143000" y="3425760"/>
            <a:ext cx="1981080" cy="1832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52380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Love has no desire but to fulfill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But if you love and must needs have desires, let these be your desir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To melt and be like a running brook that sings its melody to the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To know the pain of too much tender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To be wounded by your own understanding of lov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And to bleed willingly and joy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Kahlil Gibran, The Prop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22680" y="6321600"/>
            <a:ext cx="4621320" cy="536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981080" y="380880"/>
            <a:ext cx="2855880" cy="2640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352680" y="1219320"/>
            <a:ext cx="1981440" cy="1831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3505320"/>
            <a:ext cx="786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Young love is a flame; very pretty, often very hot and fierce, but still only light and flickering. The love of the older and disciplined heart is as coals, deep-burning, unquench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-Henry Ward Bee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22680" y="6321600"/>
            <a:ext cx="4621320" cy="53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1905120"/>
            <a:ext cx="79246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I love you without knowing how, or when, or from 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I love you straightforwardly, without complexities or pri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so I love you because I know no other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than this: where I does not exist nor yo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so close that your hand on my chest is my ha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so close that your eyes close as I fall asleep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Arial Black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Arial"/>
              </a:rPr>
              <a:t>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Pablo Neruda, “Love Sonnet XVI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19120" y="685800"/>
            <a:ext cx="65055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Happy Valentine's Day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10000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22680" y="6321600"/>
            <a:ext cx="4621320" cy="53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2419560" cy="2743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646200"/>
            <a:ext cx="853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Young love is a flame; very pretty, often very hot and fierce, but still only light and flickering. The love of the older and disciplined heart is as coals, deep-burning, unquench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Henry Ward Bee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My bounty is as boundless as the se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My love as deep; the more I give to th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The more I have, for both are infin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William Shakespeare, Romeo and Ju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9520" y="4981680"/>
            <a:ext cx="5991120" cy="657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9e87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Happy Valentine's Day</a:t>
            </a:r>
            <a:endParaRPr b="1" lang="en-US" sz="4400" spc="1" strike="noStrike">
              <a:ln w="19080">
                <a:solidFill>
                  <a:srgbClr val="ff9e87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 advTm="1000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ngcj</cp:lastModifiedBy>
  <dcterms:modified xsi:type="dcterms:W3CDTF">2008-02-02T12:18:50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