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C2B-EBD9-46EC-9B97-406E2965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6FE-F78A-4E64-83B6-91910997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B29-8B95-471C-8C0F-B12866E1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622-14F0-496F-8CF1-BCCAD87D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A35-BBE5-46FB-9C2A-3648BE8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F0C-3911-49E1-B31D-186DD76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F77-E5B0-4F03-A503-D6936455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8E8-8B38-4A69-8FF5-0AFAB043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9B1-0B43-4DEA-83AB-8B89B747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DF2-4152-4D07-8D1B-F9C297A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6A5-1172-4A6E-944C-F8F9AF1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B74-CB18-43E5-93C5-67082584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A7D-B73C-445B-B106-94316CB75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5105520" y="58402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105520" y="64119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7-15T11:15:43Z</dcterms:modified>
  <cp:revision>3</cp:revision>
  <dc:subject/>
  <dc:title>Slide 1</dc:title>
</cp:coreProperties>
</file>