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125-814C-4176-BF7B-A5374AA3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F82-52B2-4E2E-89DC-60DE0900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B414-886D-49EF-B710-F1A0CE22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2304-F61D-4613-B5FF-B3AF954F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4DE-5E22-42D7-91BA-F2AD52E0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F1B-7046-41DA-A9DE-25CCCFD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85C-B7C1-4128-BAD9-C8C2F62E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3B5-D930-4277-B5C9-4D7DCE4F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0D90-3C0C-4A38-BC9F-2595752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624-4594-4336-8417-0E13D60F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6CD-DFEE-46F6-95AA-917C996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446-A9DA-4482-9CB0-0607C329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278C-8A69-4E60-8F28-FB871F910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vd-ppt-slideshow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152280" y="58402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ore free PowerPoint templates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152280" y="6411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dvd-ppt-slideshow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7-15T11:17:52Z</dcterms:modified>
  <cp:revision>3</cp:revision>
  <dc:subject/>
  <dc:title>Slide 1</dc:title>
</cp:coreProperties>
</file>