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E44-D0FA-4800-97A9-F6E8E21E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CDA-58F0-465A-958C-94F442AD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A8D-6717-4C0A-85B4-EE33F00B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0BBB-42ED-4FB9-BA5F-16DD8866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FE9-FEA7-4CAD-8FB7-EEB6BA96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D98-7150-435F-A848-0331B27A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E23-7360-4EAF-BA3D-8C070567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25F-F7FB-45EF-8B6C-1D2A27CD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17C-6288-43E0-A0CE-A6A1C5EB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138-AA30-431C-82AA-B057E3FD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93B-9994-46FD-B6EF-8BF5A4F8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DAB-C600-493B-8D3B-981C8A15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B365-2ED7-4F8E-9B69-313D89CF2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10-27T07:58:47Z</dcterms:modified>
  <cp:revision>2</cp:revision>
  <dc:subject/>
  <dc:title>Slide 1</dc:title>
</cp:coreProperties>
</file>