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FFF-BE28-421B-B358-AB1B985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65D-D1DC-4D0E-B123-BC734DCA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1CD-604C-4911-898E-298B1B1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936-FD35-4040-A345-32D89E24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B52-3BD5-4D41-B2B8-CF1C5F9B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0AF-F7D2-45AB-B431-BF50358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991-75E5-4073-9400-772451F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9B2-6565-4340-9884-83C3A5B1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F0B-5043-4339-9FD7-9913E06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E96-6A60-4166-B2EE-A93BB4E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59B-570D-44F7-AAC9-0CD07CA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E08-055B-4B59-BD46-21D59A2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5FAE-3470-477D-8582-14D7C9A01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6:59Z</dcterms:modified>
  <cp:revision>2</cp:revision>
  <dc:subject/>
  <dc:title>Slide 1</dc:title>
</cp:coreProperties>
</file>