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C95-8797-46BB-BE48-62DF6AFF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85C-317C-4DA3-B823-E0A2CAC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AED-7EAF-4250-AB52-9F1C04D1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FC1-B570-4B8B-8140-238ECFB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C6C-24EC-4A10-948E-8749417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696-0A3C-462D-A104-BD113C90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B62-F26E-4561-8772-C63266D6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EAD-81E8-4561-8E3C-45CEF2D4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359-8F37-4869-83F7-A91AD2E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DE0-9570-4EFB-A16A-81671FB3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02C-F353-4523-8D47-0769926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D03-AF9D-4E67-A7E5-AD88D6A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E7C-C059-467B-A1F9-7FC44B1C6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7:53Z</dcterms:modified>
  <cp:revision>3</cp:revision>
  <dc:subject/>
  <dc:title>Slide 1</dc:title>
</cp:coreProperties>
</file>