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71F-A03F-4BC2-9417-E9E014E0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F36-98B5-4C72-BE9A-E101A9C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DCF-1ABF-4B5F-9EE0-F3AA7334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415-CECE-4328-8151-41CC7B8B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3CA-611D-4DF8-A13B-7AC75622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41C-140A-42BE-9609-C2277BE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D72-AAE5-4C2E-8EB7-6C8F6C4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3DB-70D7-4E1C-81D6-C463BF25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8FF-D2FB-4ADC-AF91-90B06DB4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331-239D-4ED6-9F84-9969DEFF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37F-F1E0-4964-9567-5E5BAB7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8F1-A829-4D47-874D-96DFE02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B356-7C23-43EE-B9D2-138E061C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8:14Z</dcterms:modified>
  <cp:revision>3</cp:revision>
  <dc:subject/>
  <dc:title>Slide 1</dc:title>
</cp:coreProperties>
</file>