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B4F-5335-4F50-BB6C-A93B3F3B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DA4-58F0-49CD-BB94-46C68B7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347-38AA-41BE-BDA7-223183EC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862-98D7-4161-A48E-E32ACAA2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4F6-5055-4063-82C2-5630B41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12D-E424-4542-B145-4775CC61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AFE-9EBA-41BC-B027-8837A374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482-944F-4184-87D1-4E233A86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C2B-D75D-4A5F-B6CF-70FF3B33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6DE-DB3F-407B-B36B-F0D405A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BFD-74B5-4A0C-9168-FC6BD2EF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C17-E696-4274-BB81-D83D135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FDA7-104C-4498-97F8-5FD22A600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5:24Z</dcterms:modified>
  <cp:revision>2</cp:revision>
  <dc:subject/>
  <dc:title>Slide 1</dc:title>
</cp:coreProperties>
</file>