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20D-B188-4436-AF4B-DA2C6EBF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8A4-CB72-4AEB-A0D3-475D0A74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8AF-4A7B-4C64-A134-4114196D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A508-1D39-4BED-AF88-DA1DC18C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93C-40AA-4E74-8799-B21534A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4A3-2DE1-4DBA-ACFE-1B9783F9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0BE-9271-47EE-ADCD-D3BF2AA4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B3B8-735F-40A0-8EFB-86AE4C35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C12-442D-46C2-85DD-CBB887D0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5DB-D991-4561-9055-57BA7684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D242-F924-4733-BE5A-DB59DD89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898-9255-4A49-9AB3-C7529863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18FF-31F4-4F31-AF83-6F79754D6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10-27T07:55:02Z</dcterms:modified>
  <cp:revision>2</cp:revision>
  <dc:subject/>
  <dc:title>Slide 1</dc:title>
</cp:coreProperties>
</file>