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7B7-8598-49DE-99F9-1D23BFAD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1BE4-2C3D-4E56-ACEB-370582BD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047C-DEBE-49ED-85F3-AA9F0BA9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885-4A8F-46B3-BE0F-40109D1C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7F87-C7F5-4470-9D7B-4529A8DC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5448-4210-4B64-836C-D35DAD31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FF7-E575-497A-A88B-F4E82CB3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000B-2696-4E4A-95D6-061ADEAC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9DD0-025B-47E6-8ACF-9B567911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D629-556E-40A0-AA7F-259D7FB8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751-4B03-4008-B8F7-C9D1DA7A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FE4-E96C-43C6-96BE-5316220C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B493-1028-4214-BF74-35DD46CD7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ike</cp:lastModifiedBy>
  <dcterms:modified xsi:type="dcterms:W3CDTF">2009-10-27T07:54:44Z</dcterms:modified>
  <cp:revision>2</cp:revision>
  <dc:subject/>
  <dc:title>Slide 1</dc:title>
</cp:coreProperties>
</file>