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B45-54D7-4072-8DF8-8692BC0A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13A-3160-4E48-9341-2A4822CB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491-BD40-4C88-9633-19C58F9B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7E4-F57D-4D4E-A364-82ED39F9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B77-77F7-47CC-AD52-FF1F5811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95C-0E14-4E46-B5FB-64A5DA47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40F-001D-4F81-B218-DD5C807B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2F9-1C6A-4385-9FCB-06A7FFC7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0CD-6EA4-4938-8BBC-93599EF8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527-0485-4BE8-A801-5BE98081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2FC-A8CA-444F-8D26-54C29140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FF6-097A-4E23-B225-6B2B2EC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820D-9F29-49F5-9D17-B39160FD2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4:24Z</dcterms:modified>
  <cp:revision>2</cp:revision>
  <dc:subject/>
  <dc:title>Slide 1</dc:title>
</cp:coreProperties>
</file>