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65A-607C-49C9-90BE-AF71D92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71A-D4DB-48AF-A777-0B05AEA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317-771A-40BE-90C5-200C2113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38F-E056-4C11-8657-5D36FBED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62B-F814-4AE1-9375-FB511B24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A33-ACB2-4C4F-BB32-D22AA188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B64-D91A-479F-8893-EA0C4A1A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61F-325C-4DE1-AA89-964B3153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26B-5D7C-46B2-AB01-E803DE3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AFA-B923-45B1-B480-BE8D2F1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683-0068-425F-BD7D-49A99EC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6B5-40D4-478E-AE71-B6504F0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139-476C-4C17-A656-C75B3D6F1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9:13Z</dcterms:modified>
  <cp:revision>2</cp:revision>
  <dc:subject/>
  <dc:title>Slide 1</dc:title>
</cp:coreProperties>
</file>