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4AF-7581-4444-B58B-F8A51DE4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16C-A9B3-4A1B-BBFA-359E2919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C9D-5114-4A48-9263-267931B2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C96-7792-4CA9-B04A-4EB6A4E9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8CE-31D1-4900-945F-BFD22E16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85D-92CB-4A09-810A-1D4491D5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26B-3CB5-4F46-B064-84392F2B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026-7C14-458A-BF7D-B86EEFFC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32B-710E-4727-AFE8-61CA226F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FD0-6711-4E41-A5D4-7CB34D65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F21-6490-4FD1-9F6E-CA585A0E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A84-1CD6-45BA-96FB-601B7982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062C-EC03-4F73-B12B-52B158518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10-27T07:53:59Z</dcterms:modified>
  <cp:revision>2</cp:revision>
  <dc:subject/>
  <dc:title>Slide 1</dc:title>
</cp:coreProperties>
</file>