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968F-4418-447F-BEE1-7C462601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C3BE-A180-45B7-9FF8-4A54114B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D9D6-BDE4-4C97-A7CD-F3D5F2516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269-4FC4-4C8B-B67D-8F729A712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5B3-4193-43D7-9481-CDF8C9208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1D0-95C5-41B1-9F44-8618599C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A609-804D-40E8-B84A-DD5FEA73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7E27-D6FF-4AF0-8C3D-26F9D95D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8433-536C-44C1-A600-5BFF2F00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ADA4-2164-45F8-AB01-47B9A479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249B-636B-4CCE-9249-92FFEC3B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7016-72E8-44D8-8DF2-75675726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4D8F-C225-437F-8431-CFE90B8232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www.dvd-ppt-slideshow.com/ppt-to-dvd-tips/fathers-day-gift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标题 3" descr=""/>
          <p:cNvPicPr/>
          <p:nvPr/>
        </p:nvPicPr>
        <p:blipFill>
          <a:blip r:embed="rId2"/>
          <a:stretch/>
        </p:blipFill>
        <p:spPr>
          <a:xfrm>
            <a:off x="3425760" y="96840"/>
            <a:ext cx="481032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extBox 3" descr=""/>
          <p:cNvPicPr/>
          <p:nvPr/>
        </p:nvPicPr>
        <p:blipFill>
          <a:blip r:embed="rId2"/>
          <a:stretch/>
        </p:blipFill>
        <p:spPr>
          <a:xfrm>
            <a:off x="2206800" y="755640"/>
            <a:ext cx="4827240" cy="44863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5562720" y="61722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pecial Father’s Day gif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1905120" y="6488280"/>
            <a:ext cx="72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dvd-ppt-slideshow.com/ppt-to-dvd-tips/fathers-day-gift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mike</cp:lastModifiedBy>
  <dcterms:modified xsi:type="dcterms:W3CDTF">2009-06-05T07:59:01Z</dcterms:modified>
  <cp:revision>4</cp:revision>
  <dc:subject/>
  <dc:title>Slide 1</dc:title>
</cp:coreProperties>
</file>