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75E4-6B9A-4009-BA9D-12F4FD9A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0EB0-DB8D-4C5A-95ED-F31EDD98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7FE-488B-4582-BF06-D5F1024B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6798-A8BD-4060-9FB7-91C2DD9F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ADE8-FB1C-4AEF-A1EF-BFF348B7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4801-BAF9-40C4-8E8E-F4B75F51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10FA-715F-4B9F-AE13-47557A63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CEEA-8ED9-4F2B-8A83-F4693A87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4FD5-EEC0-4FD6-BF93-B5B45E09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D76C-4F4D-47FD-87FE-F932A7E2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7D45-DC94-40E9-8B53-9A4790DE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8C68-FD56-4CAD-8C3E-5CEB0547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DD9B-38D6-431F-9616-9C65475E5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dvd-ppt-slideshow.com/ppt-to-dvd-tips/fathers-day-gift.html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标题 3" descr=""/>
          <p:cNvPicPr/>
          <p:nvPr/>
        </p:nvPicPr>
        <p:blipFill>
          <a:blip r:embed="rId2"/>
          <a:stretch/>
        </p:blipFill>
        <p:spPr>
          <a:xfrm>
            <a:off x="3425760" y="96840"/>
            <a:ext cx="48103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extBox 1" descr=""/>
          <p:cNvPicPr/>
          <p:nvPr/>
        </p:nvPicPr>
        <p:blipFill>
          <a:blip r:embed="rId2"/>
          <a:stretch/>
        </p:blipFill>
        <p:spPr>
          <a:xfrm>
            <a:off x="2206800" y="755640"/>
            <a:ext cx="482724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标题 3" descr=""/>
          <p:cNvPicPr/>
          <p:nvPr/>
        </p:nvPicPr>
        <p:blipFill>
          <a:blip r:embed="rId2"/>
          <a:stretch/>
        </p:blipFill>
        <p:spPr>
          <a:xfrm>
            <a:off x="3425760" y="96840"/>
            <a:ext cx="4810320" cy="1476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5562720" y="6172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Special Father’s Day gi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1905120" y="64882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dvd-ppt-slideshow.com/ppt-to-dvd-tips/fathers-day-gif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ike</cp:lastModifiedBy>
  <dcterms:modified xsi:type="dcterms:W3CDTF">2009-06-05T08:01:12Z</dcterms:modified>
  <cp:revision>5</cp:revision>
  <dc:subject/>
  <dc:title>Slide 1</dc:title>
</cp:coreProperties>
</file>