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19C-73EF-49AD-9C4E-85AE3B36DBC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0442-5F17-4187-8BA5-DE332E1B7D9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AE4B-7739-4C44-ADB8-63896154F47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A6D-0567-4743-929D-8127888C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B21-134D-4A48-8CE6-BACAD98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142-3577-4D51-A8DF-B82BB81B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C64-CAA3-440B-A9FC-ACBF5470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285E-C996-4F2A-B8CF-F5D41C28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938E-634F-4A6E-948D-A6A381C0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E7C5-61AC-4FDF-B63D-79ACE48E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D13D-3BA6-4825-837B-3CBB759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C31-60F3-4C38-94D3-0E23EBC6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0E9C-E9CD-4E4B-88CC-018E3C3A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06C-1D52-4E52-AF26-30850FA2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C22-ED73-4BED-8335-85D70E62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FBD1-2347-406A-B848-AFB3E74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CDDC-C78D-4A7A-B0F4-0C09169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99B0-0769-4BCF-9A9B-E7AA2DD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E03-D6F2-44CC-8DC8-F95FC055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48C2-C001-490D-867C-FE84892A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5A475-42AD-4311-A698-330C90A1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1C785-5207-41DE-882B-87D84757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ABEE0-3E7C-49EB-BEA4-CDBB6E54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0DB85-57CB-4F4F-9978-D6C75A75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B8E11-2A37-43A8-AFC4-0758F4E7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7CD-2F79-47CD-BA41-65EADC1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4126D-967A-4DAE-9BF5-A209D423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83EE4-FB9C-4FB8-BB21-5DF6632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769E1-B0B8-49FA-906E-D965655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A6A01-81BB-4ADE-B399-94245073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17EB5-AE44-44F1-87BA-8B3749F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36C96-A98D-4E61-91ED-C77DAA54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C612B-F58F-4515-BDC3-97B2B89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15AD-C183-4CD2-8CF7-6107A780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0156-171A-4F5A-98E4-4A1C9A97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324A-936E-43CC-8A46-CC45F434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921-8263-421C-8B30-0E011F90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A2A9-1B80-48D3-B1BB-E9655039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5A0D-79D7-4653-BC99-1A991544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0124-4B0F-4F04-914A-E929B11B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0D16-F5A9-4EC7-B6F1-FEC6E96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366F-41FC-4060-8992-E85A7DD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0595-8911-41E7-9993-C86E54E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80874-88A4-412A-8616-B2CA7A67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35C82-F3AE-474F-BDBC-E4EF01F4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6EB85-74A4-416E-9143-FD0725B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1BC7C-4BA1-4A4E-8BDC-04FF2F02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6F4-5F2B-4ADB-A402-0F3FD637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67EB2-C1E6-4AEE-B56E-4966339E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9B6E1-5C74-43D7-87F9-93081B82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98656-0FAD-4718-B145-E154DC3D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AD315-338E-4C44-AB79-1C02DD76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011B2-D683-4A0B-BD28-9C1C2BF3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1166E-CE87-4C49-8088-539D23D5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C9B35-CB1C-4D19-B88E-5E4CBA5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766DA-806F-4E23-A042-A0334D6E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DEE49-B83E-4B2E-BF57-BEBC5904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4B78D-A908-45AD-98CB-2236617C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A6C-EBF1-4805-BE6E-E8E71697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8A917-3D45-429E-8EC8-E6B816DB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AD7A0-A435-4850-8C36-393FBD48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E3674-C607-4C43-BE4D-AC157E73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5DC7C-195F-4B7D-B477-9A54352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6B34F-CA82-4C7B-B897-132404C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9D802-254C-47CD-9C5E-D9ABAC12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9E04F-C715-484E-B448-635F5D98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EF90E-36E8-46E9-B34D-244D6F9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97B1D-5D8D-4326-A968-FFE01DD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6598A-A5B9-45BF-BEBD-3875C263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EF5-2762-4127-9592-7EB6287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89451-BA70-4420-B67C-5C1DD0E3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02873-73EF-4F57-86E6-5347E06B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7786F-1D0A-4B42-8200-B7058C8B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49062-7F18-47BE-8226-1E33EAB3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5C419-81E3-412D-A684-578FC5A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14BF5-7FEB-4D77-9A6D-4FD9BF32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D0696-2157-43B1-806E-2665F825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A0418-1ADB-4861-8FC3-21080CEF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AF586-542C-4F35-A2FC-E2760D3E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17CFB-23B2-490A-82A9-3D0BFF8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159-F851-41C9-A18A-FA6AF578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D2A3B-E1C5-4C90-A268-890D3F8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48181-1D3C-4B5D-950A-0B5C0A9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BCCCDF-331D-48B8-AA35-B608B0E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DDC58-D580-444E-906F-EB439E3C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FEEB5-326C-4EBA-BF3E-6A64C121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59C-7C90-45B2-8874-D44CA17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E43A-946A-43F7-96C7-5C3471BD43E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2D12-D6F7-4CF1-A1C5-B2A84E9DA54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216B-44BF-4A76-9338-80207BC5070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85AD-92DB-43D2-9C55-964AFB68B25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763-C72C-4BFF-AC16-93860301134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71CA-2813-436B-9801-FE7B6C98B75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A3E8-6A92-45C0-8868-1A0ADE43F63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GungsuhChe"/>
                <a:ea typeface="GungsuhChe"/>
              </a:rPr>
              <a:t>HAPPY EASTER POWERPOI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133360" y="2743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575f6d"/>
              </a:solidFill>
              <a:latin typeface="Century Schoolbook"/>
              <a:ea typeface="宋体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4876920" y="45720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ea typeface="宋体"/>
                <a:hlinkClick r:id="rId2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华文楷体"/>
              </a:rPr>
              <a:t>HAPPY EAST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599840"/>
            <a:ext cx="6477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152280" y="4267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819520" y="4495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ea typeface="宋体"/>
                <a:hlinkClick r:id="rId2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Taylor</cp:lastModifiedBy>
  <dcterms:modified xsi:type="dcterms:W3CDTF">2009-02-19T09:52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