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D14-94FB-4FCE-840E-128C53D0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4F8-1190-4C97-92C7-20E2D395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32B-DCC0-4665-9A54-894D524D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328-74B3-4D62-83FB-E0E98600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962-B0CF-4D07-B78B-1088891F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363-760A-468D-8102-E42A2EEA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D0C-23E1-47EB-844A-BEF5EBBA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B9E-B47C-41E8-BA9D-489A5CEE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600-4F6E-4D80-8995-AEDB3082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871-69EF-4160-8014-7F9DD450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1C7-9C1B-43C6-ACCA-C3B21EDC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6D5-BD1E-4AC9-B5B0-78248C7D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1E46-8D58-4DCB-9BCE-584A81436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0" y="59292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0" y="6500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25"/>
          <p:cNvGrpSpPr/>
          <p:nvPr/>
        </p:nvGrpSpPr>
        <p:grpSpPr>
          <a:xfrm>
            <a:off x="2897280" y="1739880"/>
            <a:ext cx="3336840" cy="920880"/>
            <a:chOff x="2897280" y="1739880"/>
            <a:chExt cx="3336840" cy="920880"/>
          </a:xfrm>
        </p:grpSpPr>
        <p:sp>
          <p:nvSpPr>
            <p:cNvPr id="44" name="Freeform 12"/>
            <p:cNvSpPr/>
            <p:nvPr/>
          </p:nvSpPr>
          <p:spPr>
            <a:xfrm>
              <a:off x="2897280" y="1955160"/>
              <a:ext cx="35424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"/>
            <p:cNvSpPr/>
            <p:nvPr/>
          </p:nvSpPr>
          <p:spPr>
            <a:xfrm>
              <a:off x="3246480" y="2070360"/>
              <a:ext cx="22608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34660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367056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6"/>
            <p:cNvSpPr/>
            <p:nvPr/>
          </p:nvSpPr>
          <p:spPr>
            <a:xfrm>
              <a:off x="3652560" y="2074680"/>
              <a:ext cx="470520" cy="56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7"/>
            <p:cNvSpPr/>
            <p:nvPr/>
          </p:nvSpPr>
          <p:spPr>
            <a:xfrm>
              <a:off x="4235760" y="1949400"/>
              <a:ext cx="290880" cy="36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23040" y="1955160"/>
              <a:ext cx="259920" cy="36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9"/>
            <p:cNvSpPr/>
            <p:nvPr/>
          </p:nvSpPr>
          <p:spPr>
            <a:xfrm>
              <a:off x="4767480" y="2067480"/>
              <a:ext cx="2170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0"/>
            <p:cNvSpPr/>
            <p:nvPr/>
          </p:nvSpPr>
          <p:spPr>
            <a:xfrm>
              <a:off x="4948560" y="1917000"/>
              <a:ext cx="170640" cy="6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1"/>
            <p:cNvSpPr/>
            <p:nvPr/>
          </p:nvSpPr>
          <p:spPr>
            <a:xfrm>
              <a:off x="50922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2"/>
            <p:cNvSpPr/>
            <p:nvPr/>
          </p:nvSpPr>
          <p:spPr>
            <a:xfrm>
              <a:off x="5274360" y="1739880"/>
              <a:ext cx="272880" cy="57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3"/>
            <p:cNvSpPr/>
            <p:nvPr/>
          </p:nvSpPr>
          <p:spPr>
            <a:xfrm>
              <a:off x="5421960" y="2070360"/>
              <a:ext cx="38520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4"/>
            <p:cNvSpPr/>
            <p:nvPr/>
          </p:nvSpPr>
          <p:spPr>
            <a:xfrm>
              <a:off x="5801040" y="2064600"/>
              <a:ext cx="253440" cy="59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5"/>
            <p:cNvSpPr/>
            <p:nvPr/>
          </p:nvSpPr>
          <p:spPr>
            <a:xfrm>
              <a:off x="6039000" y="2070360"/>
              <a:ext cx="1951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Box 18" descr=""/>
          <p:cNvPicPr/>
          <p:nvPr/>
        </p:nvPicPr>
        <p:blipFill>
          <a:blip r:embed="rId2"/>
          <a:stretch/>
        </p:blipFill>
        <p:spPr>
          <a:xfrm>
            <a:off x="1944720" y="1835280"/>
            <a:ext cx="52372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05-15T07:32:37Z</dcterms:modified>
  <cp:revision>3</cp:revision>
  <dc:subject/>
  <dc:title>Slide 1</dc:title>
</cp:coreProperties>
</file>