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6C23-573D-4425-8D6E-534873B837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0B3-230C-4473-B76A-3592698DDE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F10-AB15-4EEE-8BAD-5617DC68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1FF-EA9B-4546-B76C-59FAB4C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E9D-4953-42C6-AAA3-DED4862E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938-0F70-43EE-AEEB-C970D720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333-8C7D-4D5A-8561-1920D0CF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C38-CDB6-4026-86F0-D633FBA8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5FA-BC34-4A95-A38D-B4B7E713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A2E-16AF-4D01-B12B-3FB69F4C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3BB-635E-4A14-86E5-0D37EBF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406-E0E5-469F-B0BF-CF6899CF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36B-99E6-4181-A607-7806969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B01-092F-49C5-9828-2D615A7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CFF-D723-41CE-8D0C-97A40FDCA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dvd-ppt-slideshow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ABDC46-D343-4F9B-89C1-46C7A8E43A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50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16" descr=""/>
          <p:cNvPicPr/>
          <p:nvPr/>
        </p:nvPicPr>
        <p:blipFill>
          <a:blip r:embed="rId2"/>
          <a:stretch/>
        </p:blipFill>
        <p:spPr>
          <a:xfrm>
            <a:off x="1944720" y="1670040"/>
            <a:ext cx="5237280" cy="1920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31:41Z</dcterms:modified>
  <cp:revision>2</cp:revision>
  <dc:subject/>
  <dc:title>Slide 1</dc:title>
</cp:coreProperties>
</file>