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503-7295-477A-B1F0-76FC1C3E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208-F8A2-45B4-9B94-30EA555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A92-8A4C-4165-8A49-7C6BB3A6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AE2-F80C-4F23-A569-8200F4DD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820-0EF7-4CA4-BE30-14D9B08C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88E-7C12-4E30-A178-BFF80736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6C3-DACC-451B-A46E-29BB108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143-8638-4CB6-8AF8-66CE026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7DF-204B-47F1-8DE0-39145EA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349-27F8-4970-A10C-0AEA2A3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DEB-E0F9-4D17-9CE5-3A44FDCA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505-5127-47F2-89D9-9FDD37A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7EC3-A3F2-4BA4-9271-F27BBA98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2"/>
          <p:cNvPicPr/>
          <p:nvPr/>
        </p:nvPicPr>
        <p:blipFill>
          <a:blip r:embed="rId3"/>
          <a:stretch/>
        </p:blipFill>
        <p:spPr>
          <a:xfrm>
            <a:off x="250920" y="1989000"/>
            <a:ext cx="3698640" cy="4579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/>
          <p:cNvSpPr/>
          <p:nvPr/>
        </p:nvSpPr>
        <p:spPr>
          <a:xfrm>
            <a:off x="5562720" y="59166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562720" y="64882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84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Box 3" descr=""/>
          <p:cNvPicPr/>
          <p:nvPr/>
        </p:nvPicPr>
        <p:blipFill>
          <a:blip r:embed="rId2"/>
          <a:stretch/>
        </p:blipFill>
        <p:spPr>
          <a:xfrm>
            <a:off x="1944720" y="1670040"/>
            <a:ext cx="52372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/>
          <p:cNvSpPr/>
          <p:nvPr/>
        </p:nvSpPr>
        <p:spPr>
          <a:xfrm>
            <a:off x="5562720" y="59166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562720" y="64882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102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30:49Z</dcterms:modified>
  <cp:revision>2</cp:revision>
  <dc:subject/>
  <dc:title>Slide 1</dc:title>
</cp:coreProperties>
</file>