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B627-A7CC-4449-9723-65199535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61F-DF76-4E88-944F-60A54BCA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DDF-F679-4013-821E-4C9D5734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EBF-0E22-49B1-9398-DA38CE86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0661-56FC-4358-BE03-90097E9F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83AF-6D25-4CB6-80D4-85CED64D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43E-600D-4607-BE00-77530C6F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DFC-7DC6-46BC-86BE-5F5A0ADC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674-4CE1-48B0-AE89-48BE53C7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5B7-F7FE-4202-8C8C-9A8DB9F6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5E9-1C2F-46AB-81FB-DE57B913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7C2-3CDB-484D-B489-6B068155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F6A4-7A2D-4BC4-B777-D8DBD6CE0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84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dvd-ppt-slideshow.com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vd-ppt-slideshow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25"/>
          <p:cNvGrpSpPr/>
          <p:nvPr/>
        </p:nvGrpSpPr>
        <p:grpSpPr>
          <a:xfrm>
            <a:off x="2897280" y="1739880"/>
            <a:ext cx="3336840" cy="920880"/>
            <a:chOff x="2897280" y="1739880"/>
            <a:chExt cx="3336840" cy="920880"/>
          </a:xfrm>
        </p:grpSpPr>
        <p:sp>
          <p:nvSpPr>
            <p:cNvPr id="82" name="Freeform 12"/>
            <p:cNvSpPr/>
            <p:nvPr/>
          </p:nvSpPr>
          <p:spPr>
            <a:xfrm>
              <a:off x="2897280" y="1955160"/>
              <a:ext cx="354240" cy="36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3"/>
            <p:cNvSpPr/>
            <p:nvPr/>
          </p:nvSpPr>
          <p:spPr>
            <a:xfrm>
              <a:off x="3246480" y="2070360"/>
              <a:ext cx="22608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4"/>
            <p:cNvSpPr/>
            <p:nvPr/>
          </p:nvSpPr>
          <p:spPr>
            <a:xfrm>
              <a:off x="346608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5"/>
            <p:cNvSpPr/>
            <p:nvPr/>
          </p:nvSpPr>
          <p:spPr>
            <a:xfrm>
              <a:off x="367056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6"/>
            <p:cNvSpPr/>
            <p:nvPr/>
          </p:nvSpPr>
          <p:spPr>
            <a:xfrm>
              <a:off x="3652560" y="2074680"/>
              <a:ext cx="470520" cy="56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7"/>
            <p:cNvSpPr/>
            <p:nvPr/>
          </p:nvSpPr>
          <p:spPr>
            <a:xfrm>
              <a:off x="4235760" y="1949400"/>
              <a:ext cx="290880" cy="36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8"/>
            <p:cNvSpPr/>
            <p:nvPr/>
          </p:nvSpPr>
          <p:spPr>
            <a:xfrm>
              <a:off x="4523040" y="1955160"/>
              <a:ext cx="259920" cy="36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9"/>
            <p:cNvSpPr/>
            <p:nvPr/>
          </p:nvSpPr>
          <p:spPr>
            <a:xfrm>
              <a:off x="476748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0"/>
            <p:cNvSpPr/>
            <p:nvPr/>
          </p:nvSpPr>
          <p:spPr>
            <a:xfrm>
              <a:off x="4948560" y="1917000"/>
              <a:ext cx="170640" cy="66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"/>
            <p:cNvSpPr/>
            <p:nvPr/>
          </p:nvSpPr>
          <p:spPr>
            <a:xfrm>
              <a:off x="5092200" y="2070360"/>
              <a:ext cx="1951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2"/>
            <p:cNvSpPr/>
            <p:nvPr/>
          </p:nvSpPr>
          <p:spPr>
            <a:xfrm>
              <a:off x="5274360" y="1739880"/>
              <a:ext cx="272880" cy="57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3"/>
            <p:cNvSpPr/>
            <p:nvPr/>
          </p:nvSpPr>
          <p:spPr>
            <a:xfrm>
              <a:off x="5421960" y="2070360"/>
              <a:ext cx="38520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4"/>
            <p:cNvSpPr/>
            <p:nvPr/>
          </p:nvSpPr>
          <p:spPr>
            <a:xfrm>
              <a:off x="5801040" y="2064600"/>
              <a:ext cx="253440" cy="59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5"/>
            <p:cNvSpPr/>
            <p:nvPr/>
          </p:nvSpPr>
          <p:spPr>
            <a:xfrm>
              <a:off x="6039000" y="2070360"/>
              <a:ext cx="1951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extBox 3" descr=""/>
          <p:cNvPicPr/>
          <p:nvPr/>
        </p:nvPicPr>
        <p:blipFill>
          <a:blip r:embed="rId2"/>
          <a:stretch/>
        </p:blipFill>
        <p:spPr>
          <a:xfrm>
            <a:off x="1944720" y="1670040"/>
            <a:ext cx="5237280" cy="192096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5562720" y="592920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ore free PowerPoint template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5562720" y="65008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dvd-ppt-slideshow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25"/>
          <p:cNvGrpSpPr/>
          <p:nvPr/>
        </p:nvGrpSpPr>
        <p:grpSpPr>
          <a:xfrm>
            <a:off x="2897280" y="1739880"/>
            <a:ext cx="3336840" cy="920880"/>
            <a:chOff x="2897280" y="1739880"/>
            <a:chExt cx="3336840" cy="920880"/>
          </a:xfrm>
        </p:grpSpPr>
        <p:sp>
          <p:nvSpPr>
            <p:cNvPr id="100" name="Freeform 12"/>
            <p:cNvSpPr/>
            <p:nvPr/>
          </p:nvSpPr>
          <p:spPr>
            <a:xfrm>
              <a:off x="2897280" y="1955160"/>
              <a:ext cx="354240" cy="36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3"/>
            <p:cNvSpPr/>
            <p:nvPr/>
          </p:nvSpPr>
          <p:spPr>
            <a:xfrm>
              <a:off x="3246480" y="2070360"/>
              <a:ext cx="22608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346608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367056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3652560" y="2074680"/>
              <a:ext cx="470520" cy="56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4235760" y="1949400"/>
              <a:ext cx="290880" cy="36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4523040" y="1955160"/>
              <a:ext cx="259920" cy="36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476748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4948560" y="1917000"/>
              <a:ext cx="170640" cy="66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5092200" y="2070360"/>
              <a:ext cx="1951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5274360" y="1739880"/>
              <a:ext cx="272880" cy="57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5421960" y="2070360"/>
              <a:ext cx="38520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5801040" y="2064600"/>
              <a:ext cx="253440" cy="59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5"/>
            <p:cNvSpPr/>
            <p:nvPr/>
          </p:nvSpPr>
          <p:spPr>
            <a:xfrm>
              <a:off x="6039000" y="2070360"/>
              <a:ext cx="1951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5"/>
          <p:cNvSpPr/>
          <p:nvPr/>
        </p:nvSpPr>
        <p:spPr>
          <a:xfrm>
            <a:off x="0" y="59292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ore free PowerPoint template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0" y="65008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dvd-ppt-slideshow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05-15T07:29:36Z</dcterms:modified>
  <cp:revision>5</cp:revision>
  <dc:subject/>
  <dc:title>Slide 1</dc:title>
</cp:coreProperties>
</file>