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F17-229E-437F-ACF4-1C83F615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E7F-4009-417A-A036-17605CF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B7F-F07A-4364-9C69-A487B98F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BE6-8901-4B26-A7F8-FF66D30F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5EA-CF05-4844-A0FA-99ABA34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F75-A4B5-42FD-9288-DE1EB3CD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A97-4548-47AE-B811-0463AA8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2ED-6353-45F4-9333-7913CC7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4BC-7421-4D00-9F93-CDF264E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25C-35F9-4A10-A82A-586E8405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3E6-775F-45E2-9048-694D73A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E82-0189-429F-8AC0-B45B4CE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E926-0C40-4C76-9FB8-488B9CD7B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2"/>
          <p:cNvPicPr/>
          <p:nvPr/>
        </p:nvPicPr>
        <p:blipFill>
          <a:blip r:embed="rId3"/>
          <a:stretch/>
        </p:blipFill>
        <p:spPr>
          <a:xfrm>
            <a:off x="5910120" y="2852640"/>
            <a:ext cx="3233880" cy="4005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vd-ppt-slideshow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vd-ppt-slideshow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84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Box 18" descr=""/>
          <p:cNvPicPr/>
          <p:nvPr/>
        </p:nvPicPr>
        <p:blipFill>
          <a:blip r:embed="rId2"/>
          <a:stretch/>
        </p:blipFill>
        <p:spPr>
          <a:xfrm>
            <a:off x="1944720" y="2432160"/>
            <a:ext cx="52372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102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5-15T07:26:51Z</dcterms:modified>
  <cp:revision>6</cp:revision>
  <dc:subject/>
  <dc:title>Slide 1</dc:title>
</cp:coreProperties>
</file>