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388-9951-407F-822E-31D41585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CE2A-AAF9-4014-8119-39545441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EE52-7007-46DF-A974-8C9B2F0B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3AC-0D94-4AE2-84FC-A2AD4928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652B-179D-480E-88F5-9CDF5F20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EB88-D6FD-48E3-A696-3EBBD1F2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EE2D-9530-460B-A2AE-66618A4A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9B15-D689-4446-8C6D-8008A324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4864-50B6-4F3D-948B-7B59EE81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A82A-7860-4731-B3FA-8923334C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BD26-B1CB-4E92-87CC-34BD9C48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88CA-0991-482A-B667-04BB7598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985B-5EF4-47E8-9B6D-5D4759D0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79BA-2370-481F-B4C2-DA0D3172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FD96-8297-4B9C-BACE-25260E6D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DE5B-CAA7-4FA6-B06B-F8BD09FD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5347-1BB5-4F09-99BB-A94B06D2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4DBCC-190A-4B1D-8165-A02E404A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99CF4-2798-443E-B4E3-28A060D9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2F2BF-207E-4F83-844F-7EE8C88B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7ABDA-EC14-4D7E-A0F1-F32017BF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0A333-966E-46DE-AAB2-AB4B1E15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C7A-4349-4C9D-A44C-D11C0C4D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89DD2-1F04-419E-A82A-B9BC0F88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B2A41-B28E-4FE8-95F6-21B626E4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080EE-0722-439C-95A3-93F642FD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CCA6D-BCE5-4E01-B1D8-3CDBB4DA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F7AF3-7AAB-47DA-8B8A-C4CF980E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91DF1-4C8C-4063-AEBF-BA3B16A6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E765B-2288-476D-BE7D-F9E81272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0BD7-8A2F-4A3B-8C59-3BBA9473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B83C-5877-462F-B2AF-AC5F43B5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0765-D886-42D5-A327-8DFE787E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B583-30A8-4C37-95A1-5C4005FA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0DFC-085B-4C78-877B-C1414BF5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879D-4030-4FF9-A7FA-25116D8F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E78C-D3E3-408E-B66F-6193D369CD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1E37-7047-478F-B95D-94CB284FAC1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9071-82F2-4CA0-9514-38BFB25A08E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vd-ppt-slideshow.com/" TargetMode="External"/><Relationship Id="rId2" Type="http://schemas.openxmlformats.org/officeDocument/2006/relationships/hyperlink" Target="http://www.dvd-ppt-slideshow.com/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sameshow.com/download/powerpoint-to-dvd.php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www.dvd-ppt-slideshow.com/download/" TargetMode="External"/><Relationship Id="rId5" Type="http://schemas.openxmlformats.org/officeDocument/2006/relationships/hyperlink" Target="http://www.dvd-ppt-slideshow.com/purchase/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dvd-ppt-slideshow.com/purchase/" TargetMode="External"/><Relationship Id="rId8" Type="http://schemas.openxmlformats.org/officeDocument/2006/relationships/hyperlink" Target="http://www.sameshow.com/powerpoint-to-dvd.html" TargetMode="External"/><Relationship Id="rId9" Type="http://schemas.openxmlformats.org/officeDocument/2006/relationships/image" Target="../media/image14.jpeg"/><Relationship Id="rId10" Type="http://schemas.openxmlformats.org/officeDocument/2006/relationships/hyperlink" Target="http://www.dvd-ppt-slideshow.com/ppt_to_dvd/" TargetMode="External"/><Relationship Id="rId11" Type="http://schemas.openxmlformats.org/officeDocument/2006/relationships/hyperlink" Target="http://www.dvd-ppt-slideshow.com/" TargetMode="External"/><Relationship Id="rId12" Type="http://schemas.openxmlformats.org/officeDocument/2006/relationships/hyperlink" Target="http://www.dvd-ppt-slideshow.com/" TargetMode="External"/><Relationship Id="rId1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dvd-ppt-slideshow.com/" TargetMode="External"/><Relationship Id="rId3" Type="http://schemas.openxmlformats.org/officeDocument/2006/relationships/hyperlink" Target="http://www.dvd-ppt-slideshow.com/" TargetMode="Externa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dvd-ppt-slideshow.com/" TargetMode="External"/><Relationship Id="rId3" Type="http://schemas.openxmlformats.org/officeDocument/2006/relationships/hyperlink" Target="http://www.dvd-ppt-slideshow.com/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09680" y="6858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ustomize au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0"/>
            <a:ext cx="61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Moyea PPT to DVD B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64771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华文新魏"/>
                <a:ea typeface="华文新魏"/>
                <a:hlinkClick r:id="rId1"/>
              </a:rPr>
              <a:t>http://</a:t>
            </a:r>
            <a:r>
              <a:rPr b="0" lang="zh-CN" sz="1400" spc="-1" strike="noStrike" u="sng">
                <a:solidFill>
                  <a:srgbClr val="99ff66"/>
                </a:solidFill>
                <a:uFillTx/>
                <a:latin typeface="华文新魏"/>
                <a:ea typeface="华文新魏"/>
                <a:hlinkClick r:id="rId2"/>
              </a:rPr>
              <a:t>www.dvd-ppt-slideshow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62120" y="990720"/>
            <a:ext cx="75438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2209680" cy="261936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14"/>
          <p:cNvGrpSpPr/>
          <p:nvPr/>
        </p:nvGrpSpPr>
        <p:grpSpPr>
          <a:xfrm>
            <a:off x="1447920" y="5257800"/>
            <a:ext cx="1571400" cy="596520"/>
            <a:chOff x="1447920" y="5257800"/>
            <a:chExt cx="1571400" cy="596520"/>
          </a:xfrm>
        </p:grpSpPr>
        <p:pic>
          <p:nvPicPr>
            <p:cNvPr id="193" name="Picture 10" descr="try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1447920" y="5257800"/>
              <a:ext cx="54000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Box 10"/>
            <p:cNvSpPr/>
            <p:nvPr/>
          </p:nvSpPr>
          <p:spPr>
            <a:xfrm>
              <a:off x="2090880" y="5329080"/>
              <a:ext cx="92844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u="sng">
                  <a:solidFill>
                    <a:srgbClr val="99ff66"/>
                  </a:solidFill>
                  <a:uFillTx/>
                  <a:latin typeface="Century"/>
                  <a:hlinkClick r:id="rId4"/>
                </a:rPr>
                <a:t>Tr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5"/>
          <p:cNvGrpSpPr/>
          <p:nvPr/>
        </p:nvGrpSpPr>
        <p:grpSpPr>
          <a:xfrm>
            <a:off x="3962520" y="5257800"/>
            <a:ext cx="1571400" cy="596520"/>
            <a:chOff x="3962520" y="5257800"/>
            <a:chExt cx="1571400" cy="596520"/>
          </a:xfrm>
        </p:grpSpPr>
        <p:pic>
          <p:nvPicPr>
            <p:cNvPr id="196" name="Picture 9" descr="buy.jpg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3962520" y="5257800"/>
              <a:ext cx="54000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Box 13"/>
            <p:cNvSpPr/>
            <p:nvPr/>
          </p:nvSpPr>
          <p:spPr>
            <a:xfrm>
              <a:off x="4605480" y="5329080"/>
              <a:ext cx="92844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u="sng">
                  <a:solidFill>
                    <a:srgbClr val="99ff66"/>
                  </a:solidFill>
                  <a:uFillTx/>
                  <a:latin typeface="Century"/>
                  <a:hlinkClick r:id="rId7"/>
                </a:rPr>
                <a:t>Bu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6"/>
          <p:cNvGrpSpPr/>
          <p:nvPr/>
        </p:nvGrpSpPr>
        <p:grpSpPr>
          <a:xfrm>
            <a:off x="6477120" y="5257800"/>
            <a:ext cx="2214360" cy="581400"/>
            <a:chOff x="6477120" y="5257800"/>
            <a:chExt cx="2214360" cy="581400"/>
          </a:xfrm>
        </p:grpSpPr>
        <p:pic>
          <p:nvPicPr>
            <p:cNvPr id="199" name="Picture 8" descr="upgrade.jpg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6477120" y="5257800"/>
              <a:ext cx="54000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16"/>
            <p:cNvSpPr/>
            <p:nvPr/>
          </p:nvSpPr>
          <p:spPr>
            <a:xfrm>
              <a:off x="7120080" y="5329080"/>
              <a:ext cx="1571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99ff66"/>
                  </a:solidFill>
                  <a:uFillTx/>
                  <a:latin typeface="Century"/>
                  <a:hlinkClick r:id="rId10"/>
                </a:rPr>
                <a:t>M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876920" y="1905120"/>
            <a:ext cx="266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76920" y="251460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76920" y="1905120"/>
            <a:ext cx="1904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15238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24280" y="12193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High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20574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Fast convert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24280" y="28195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24280" y="35812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Rel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0"/>
            <a:ext cx="61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Moyea PPT to DVD B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64771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华文新魏"/>
                <a:ea typeface="华文新魏"/>
                <a:hlinkClick r:id="rId11"/>
              </a:rPr>
              <a:t>http://</a:t>
            </a:r>
            <a:r>
              <a:rPr b="0" lang="zh-CN" sz="1400" spc="-1" strike="noStrike" u="sng">
                <a:solidFill>
                  <a:srgbClr val="99ff66"/>
                </a:solidFill>
                <a:uFillTx/>
                <a:latin typeface="华文新魏"/>
                <a:ea typeface="华文新魏"/>
                <a:hlinkClick r:id="rId12"/>
              </a:rPr>
              <a:t>www.dvd-ppt-slideshow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04920" y="7621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</a:rPr>
              <a:t>Moyea PPT to DVD B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49528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lcome to Moyea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63244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64771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ff"/>
                </a:solidFill>
                <a:latin typeface="华文新魏"/>
                <a:ea typeface="华文新魏"/>
              </a:rPr>
              <a:t>http://</a:t>
            </a:r>
            <a:r>
              <a:rPr b="0" lang="zh-CN" sz="1400" spc="-1" strike="noStrike">
                <a:solidFill>
                  <a:srgbClr val="0000ff"/>
                </a:solidFill>
                <a:latin typeface="华文新魏"/>
                <a:ea typeface="华文新魏"/>
              </a:rPr>
              <a:t>www.dvd-ppt-slideshow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82760"/>
            <a:ext cx="838512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Arial Black"/>
              </a:rPr>
              <a:t>Moyea PPT to DVD Burner 2.0 at a glance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2210040" cy="2619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371600" y="21337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Powerful Encoding 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31240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Friendly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4114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Customized DVD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0"/>
            <a:ext cx="61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Moyea PPT to DVD B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64771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ff"/>
                </a:solidFill>
                <a:latin typeface="华文新魏"/>
                <a:ea typeface="华文新魏"/>
              </a:rPr>
              <a:t>http://</a:t>
            </a:r>
            <a:r>
              <a:rPr b="0" lang="zh-CN" sz="1400" spc="-1" strike="noStrike">
                <a:solidFill>
                  <a:srgbClr val="0000ff"/>
                </a:solidFill>
                <a:latin typeface="华文新魏"/>
                <a:ea typeface="华文新魏"/>
              </a:rPr>
              <a:t>www.dvd-ppt-slideshow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429000" y="762120"/>
            <a:ext cx="2209680" cy="2619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62120" y="3429000"/>
            <a:ext cx="1743120" cy="1542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400800" y="3429000"/>
            <a:ext cx="2152800" cy="1428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00400" y="4114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rn PowerPoint to D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0"/>
            <a:ext cx="61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Moyea PPT to DVD B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64771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ff"/>
                </a:solidFill>
                <a:latin typeface="华文新魏"/>
                <a:ea typeface="华文新魏"/>
              </a:rPr>
              <a:t>http://</a:t>
            </a:r>
            <a:r>
              <a:rPr b="0" lang="zh-CN" sz="1400" spc="-1" strike="noStrike">
                <a:solidFill>
                  <a:srgbClr val="0000ff"/>
                </a:solidFill>
                <a:latin typeface="华文新魏"/>
                <a:ea typeface="华文新魏"/>
              </a:rPr>
              <a:t>www.dvd-ppt-slideshow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iped Right Arrow 5"/>
          <p:cNvSpPr/>
          <p:nvPr/>
        </p:nvSpPr>
        <p:spPr>
          <a:xfrm rot="5400000">
            <a:off x="4182120" y="3320280"/>
            <a:ext cx="928800" cy="714240"/>
          </a:xfrm>
          <a:prstGeom prst="pie">
            <a:avLst/>
          </a:prstGeom>
          <a:solidFill>
            <a:srgbClr val="cc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iped Right Arrow 8"/>
          <p:cNvSpPr/>
          <p:nvPr/>
        </p:nvSpPr>
        <p:spPr>
          <a:xfrm>
            <a:off x="3124080" y="4114800"/>
            <a:ext cx="3202200" cy="71280"/>
          </a:xfrm>
          <a:prstGeom prst="pie">
            <a:avLst/>
          </a:prstGeom>
          <a:solidFill>
            <a:srgbClr val="cc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2819520" y="4648320"/>
            <a:ext cx="1071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cc00"/>
                </a:solidFill>
                <a:latin typeface="Arial"/>
              </a:rPr>
              <a:t>Eas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3733920" y="4648320"/>
            <a:ext cx="100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cc00"/>
                </a:solidFill>
                <a:latin typeface="Arial"/>
              </a:rPr>
              <a:t>Fa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1"/>
          <p:cNvSpPr/>
          <p:nvPr/>
        </p:nvSpPr>
        <p:spPr>
          <a:xfrm>
            <a:off x="4648320" y="464832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cc00"/>
                </a:solidFill>
                <a:latin typeface="Arial"/>
              </a:rPr>
              <a:t>High Qual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82760"/>
            <a:ext cx="838512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66"/>
                </a:solidFill>
                <a:latin typeface="Arial Black"/>
              </a:rPr>
              <a:t>Powerful Encoding Ability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Embed burn eng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Support batch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Burn PowerPoint to DV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Convert PowerPoint presentation to vid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Obtain the animations and transitions of original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Fast convert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0"/>
            <a:ext cx="61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Moyea PPT to DVD B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64771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ff"/>
                </a:solidFill>
                <a:latin typeface="华文新魏"/>
                <a:ea typeface="华文新魏"/>
              </a:rPr>
              <a:t>http://</a:t>
            </a:r>
            <a:r>
              <a:rPr b="0" lang="zh-CN" sz="1400" spc="-1" strike="noStrike">
                <a:solidFill>
                  <a:srgbClr val="0000ff"/>
                </a:solidFill>
                <a:latin typeface="华文新魏"/>
                <a:ea typeface="华文新魏"/>
              </a:rPr>
              <a:t>www.dvd-ppt-slideshow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239240" cy="5334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295280" y="76212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rveyable  function tit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0"/>
            <a:ext cx="61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Moyea PPT to DVD B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64771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ff"/>
                </a:solidFill>
                <a:latin typeface="华文新魏"/>
                <a:ea typeface="华文新魏"/>
              </a:rPr>
              <a:t>http://</a:t>
            </a:r>
            <a:r>
              <a:rPr b="0" lang="zh-CN" sz="1400" spc="-1" strike="noStrike">
                <a:solidFill>
                  <a:srgbClr val="0000ff"/>
                </a:solidFill>
                <a:latin typeface="华文新魏"/>
                <a:ea typeface="华文新魏"/>
              </a:rPr>
              <a:t>www.dvd-ppt-slideshow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362320" y="7621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Flexible output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0"/>
            <a:ext cx="61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Moyea PPT to DVD B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64771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ff"/>
                </a:solidFill>
                <a:latin typeface="华文新魏"/>
                <a:ea typeface="华文新魏"/>
              </a:rPr>
              <a:t>http://</a:t>
            </a:r>
            <a:r>
              <a:rPr b="0" lang="zh-CN" sz="1400" spc="-1" strike="noStrike">
                <a:solidFill>
                  <a:srgbClr val="0000ff"/>
                </a:solidFill>
                <a:latin typeface="华文新魏"/>
                <a:ea typeface="华文新魏"/>
              </a:rPr>
              <a:t>www.dvd-ppt-slideshow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253280" cy="54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38080" y="1031760"/>
            <a:ext cx="7620120" cy="5369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590920" y="15228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38280" y="6858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ustomize DVD 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0"/>
            <a:ext cx="61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Moyea PPT to DVD B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64771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华文新魏"/>
                <a:ea typeface="华文新魏"/>
                <a:hlinkClick r:id="rId2"/>
              </a:rPr>
              <a:t>http://</a:t>
            </a:r>
            <a:r>
              <a:rPr b="0" lang="zh-CN" sz="1400" spc="-1" strike="noStrike" u="sng">
                <a:solidFill>
                  <a:srgbClr val="99ff66"/>
                </a:solidFill>
                <a:uFillTx/>
                <a:latin typeface="华文新魏"/>
                <a:ea typeface="华文新魏"/>
                <a:hlinkClick r:id="rId3"/>
              </a:rPr>
              <a:t>www.dvd-ppt-slideshow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467480" cy="5254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514600" y="762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ustomize DVD content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0"/>
            <a:ext cx="61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Moyea PPT to DVD B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64771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华文新魏"/>
                <a:ea typeface="华文新魏"/>
                <a:hlinkClick r:id="rId2"/>
              </a:rPr>
              <a:t>http://</a:t>
            </a:r>
            <a:r>
              <a:rPr b="0" lang="zh-CN" sz="1400" spc="-1" strike="noStrike" u="sng">
                <a:solidFill>
                  <a:srgbClr val="99ff66"/>
                </a:solidFill>
                <a:uFillTx/>
                <a:latin typeface="华文新魏"/>
                <a:ea typeface="华文新魏"/>
                <a:hlinkClick r:id="rId3"/>
              </a:rPr>
              <a:t>www.dvd-ppt-slideshow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priz</cp:lastModifiedBy>
  <dcterms:modified xsi:type="dcterms:W3CDTF">2007-09-28T02:07:3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