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262-F04A-4540-B01F-DA1990D6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393-EF87-4E76-8FDC-9D81DC97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45E-B9A5-4434-9FB8-A9A65003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68E-D27C-4964-842C-8D4E9022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682-E95D-4DE3-8F92-A2732E01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4BE-51FC-439C-BC5A-8A163DE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DCA-E089-4D7F-B3D0-B5322440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047-5B0B-4F9B-B8E9-08A39CB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F31-B998-4ADE-B89C-2F478E68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840-9C10-4B9C-B4C1-6154966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2F4-BE94-4527-A4FA-5B26048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1CF-CFEC-4B4B-B458-3BCF556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7B8-49E1-4C82-813D-EC8E01CF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blog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宋体"/>
              </a:rPr>
              <a:t>Thanksgiving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by Judith.A. Lindbe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2057400"/>
            <a:ext cx="49622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voices, singing, laughing, always ca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97040" y="2133720"/>
            <a:ext cx="738468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ideas, letting wisdom grow ta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6520" y="2133720"/>
            <a:ext cx="48942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neighbors, across the street,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6520" y="1981080"/>
            <a:ext cx="87627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giving of myself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make a bett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200400"/>
            <a:ext cx="85345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is is made by</a:t>
            </a:r>
            <a:br>
              <a:rPr sz="3600"/>
            </a:b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  <a:ea typeface="宋体"/>
              </a:rPr>
              <a:t>Moyea PPT to DVD Burner</a:t>
            </a:r>
            <a:br>
              <a:rPr sz="32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dvd-ppt-slideshow.com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2057400"/>
            <a:ext cx="61563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the trust the pilgrims had so many years ago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0200" y="1981080"/>
            <a:ext cx="640080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the harvest the settlers learnt to grow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520" y="2133720"/>
            <a:ext cx="594180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America, the land in which we liv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70120" y="2701800"/>
            <a:ext cx="3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2133720"/>
            <a:ext cx="468288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nature and beauty which she giv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6520" y="2133720"/>
            <a:ext cx="547668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kindness, gentle words, thoughtful d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76520" y="2209680"/>
            <a:ext cx="500688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smiles, the sunshine everyo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76520" y="2133720"/>
            <a:ext cx="517500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gratitude... our blessings big and sma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5400" y="2209680"/>
            <a:ext cx="479844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  <a:ea typeface="宋体"/>
              </a:rPr>
              <a:t>     </a:t>
            </a: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is for ide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letting wisdom grow ta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57200"/>
            <a:ext cx="7086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omic Sans MS"/>
                <a:ea typeface="宋体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riz</cp:lastModifiedBy>
  <dcterms:modified xsi:type="dcterms:W3CDTF">2007-11-16T02:03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